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EE1-8128-494B-BC32-2838F1B4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F79-E387-4657-A66E-5C59AD61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D99A-2098-42BD-9931-294C941A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D9D6-C575-45E6-92BD-D461BA4D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0BFD-169E-4C98-8B3A-1EFFECF3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A4BE-2494-4384-880F-BB0C1EFD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6E10-2593-4D60-81BA-D724CC98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8C22-7D3E-4875-998D-ED3DBD9D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9557-52DE-45DB-A09D-573C0C51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43E7-06FF-4791-82EE-D4FB6F17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339D-027A-4DD2-B395-D64AED6F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280-4DC6-44DF-B641-7FB7399A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EF56-939A-4AB0-8AA0-22EC1A8D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28C7-0646-4121-9271-31172453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6EFC-43DF-4EC6-9C49-982BC20D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2D31-7EA2-488F-BF6B-19148260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0D7E-4CF1-408A-A1AF-4ECD4206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D63EF-3F0B-45BE-B253-52623C82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10040-8D4C-4658-A984-5F9745C1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2A074-CD5A-46D5-BEE0-6AC14018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9F4ED-8745-4412-BE5A-5999DB16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899BA-7EC8-45FB-8775-603A97D2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185-EBDA-4DDE-A17F-94F05920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BB219-E995-42AE-A411-2A999B5F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47D85-E76E-489C-AFF5-709BFD29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FF870-6D24-4F07-87C1-9BE5C330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8658E-E03C-4B0B-9D35-3747963C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C50E3-4686-48B4-85EF-4EAE1755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81901-09C1-4AF5-99E8-0E4CC17A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976C6-376E-481D-A07D-6E0F12A4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91929-3153-4355-96FA-C240DE17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6C23D-F5FF-4B9B-853F-6731A30C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02D2B-F4FB-41DD-99ED-CD7C2442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8E9B-6B06-4846-ACB4-70E04337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C7BD2-D12B-4C06-925B-42C9A5DB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F9470-C062-4DC3-A386-305F9675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AB4A8-0C90-485F-8EFD-67E0B79C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4962E-F0CF-468D-AA80-5A450E18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DDB17-5BAA-4A15-8D57-19239AE4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877B6-D9BC-4BDA-AE14-A20AF4A6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50CE3-D6F0-4A9D-8FF5-B8D71615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30486-CD0A-4358-85C4-1132A1F4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7223D-8435-4988-A11D-8BCB9B3C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7288F-04E8-49CC-AB6C-FD43F358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543-F82F-4856-A54D-74DA2153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89563-F2E1-4340-8EBC-86B750E4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B216D-6C75-4851-870B-DC2EC81F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ADA4E-24E2-49E1-BF33-291EE7B4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1D8FF-3C19-42CA-9AA4-252C874B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F1887-F8CF-4854-87E9-31DCE9BF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DA3C3-59C1-4D55-8F85-A5CC3166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9FB17-44E3-45B5-BDBC-3914FC33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285BC-5D96-450F-83E4-29FD528B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D6E3D-4F23-4304-9B26-A4680D0A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0061F-B7D6-4FAD-9310-B05BC7E6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D68-68B1-4DD4-982B-F142C86B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88A47-2F0F-4C22-9B26-FED6E152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A001-C8D8-4D8C-BB89-A1B27779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09F-48F3-4FE8-8755-FE11ACAD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3D75-9330-4AD6-8B9F-19BFDB54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8ABF-7FA3-48B0-B780-137EDA19B3EE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176E-B61C-4BE8-BAB8-DE5391447B74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4569-C55C-4E06-8ED7-83710C3492BD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38F5-FC26-4A0F-BE4B-98E1FFE38881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0D8F-C254-4402-BF06-E09E4B3599E9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5280" y="3571920"/>
            <a:ext cx="64008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Kristen ITC"/>
              </a:rPr>
              <a:t>Do We Make a Difference?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ffffff"/>
                </a:solidFill>
                <a:latin typeface="Kristen ITC"/>
              </a:rPr>
              <a:t>Making Tracks</a:t>
            </a:r>
            <a:endParaRPr b="0" lang="en-US" sz="72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4" name="Picture 5" descr="aboriginal flag.jpg"/>
          <p:cNvPicPr/>
          <p:nvPr/>
        </p:nvPicPr>
        <p:blipFill>
          <a:blip r:embed="rId1"/>
          <a:stretch/>
        </p:blipFill>
        <p:spPr>
          <a:xfrm>
            <a:off x="371520" y="3365640"/>
            <a:ext cx="1536480" cy="1498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australianflag.jpg"/>
          <p:cNvPicPr/>
          <p:nvPr/>
        </p:nvPicPr>
        <p:blipFill>
          <a:blip r:embed="rId2"/>
          <a:stretch/>
        </p:blipFill>
        <p:spPr>
          <a:xfrm>
            <a:off x="6772320" y="3382920"/>
            <a:ext cx="1622520" cy="1268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footprints.jpg"/>
          <p:cNvPicPr/>
          <p:nvPr/>
        </p:nvPicPr>
        <p:blipFill>
          <a:blip r:embed="rId3"/>
          <a:stretch/>
        </p:blipFill>
        <p:spPr>
          <a:xfrm>
            <a:off x="378612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footprints.jpg"/>
          <p:cNvPicPr/>
          <p:nvPr/>
        </p:nvPicPr>
        <p:blipFill>
          <a:blip r:embed="rId4"/>
          <a:stretch/>
        </p:blipFill>
        <p:spPr>
          <a:xfrm>
            <a:off x="528624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footprints.jpg"/>
          <p:cNvPicPr/>
          <p:nvPr/>
        </p:nvPicPr>
        <p:blipFill>
          <a:blip r:embed="rId5"/>
          <a:stretch/>
        </p:blipFill>
        <p:spPr>
          <a:xfrm>
            <a:off x="678672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8" descr="footprints.jpg"/>
          <p:cNvPicPr/>
          <p:nvPr/>
        </p:nvPicPr>
        <p:blipFill>
          <a:blip r:embed="rId6"/>
          <a:stretch/>
        </p:blipFill>
        <p:spPr>
          <a:xfrm>
            <a:off x="228600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footprints.jpg"/>
          <p:cNvPicPr/>
          <p:nvPr/>
        </p:nvPicPr>
        <p:blipFill>
          <a:blip r:embed="rId7"/>
          <a:stretch/>
        </p:blipFill>
        <p:spPr>
          <a:xfrm>
            <a:off x="785880" y="6143760"/>
            <a:ext cx="151128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Kristen ITC"/>
              </a:rPr>
              <a:t>Are you ready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Kristen ITC"/>
              </a:rPr>
              <a:t>By yourself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doni MT"/>
              </a:rPr>
              <a:t>Look at each pictur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doni MT"/>
              </a:rPr>
              <a:t>Do you know who these people are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doni MT"/>
              </a:rPr>
              <a:t>Match the pictures with the captions on your workshee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Kristen ITC"/>
              </a:rPr>
              <a:t>With your partner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doni MT"/>
              </a:rPr>
              <a:t>Look at each picture agai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doni MT"/>
              </a:rPr>
              <a:t>Compare your respons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doni MT"/>
              </a:rPr>
              <a:t>Work together to match more pictures to the caption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3" descr="footprints.jpg"/>
          <p:cNvPicPr/>
          <p:nvPr/>
        </p:nvPicPr>
        <p:blipFill>
          <a:blip r:embed="rId1"/>
          <a:stretch/>
        </p:blipFill>
        <p:spPr>
          <a:xfrm>
            <a:off x="378612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footprints.jpg"/>
          <p:cNvPicPr/>
          <p:nvPr/>
        </p:nvPicPr>
        <p:blipFill>
          <a:blip r:embed="rId2"/>
          <a:stretch/>
        </p:blipFill>
        <p:spPr>
          <a:xfrm>
            <a:off x="528624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footprints.jpg"/>
          <p:cNvPicPr/>
          <p:nvPr/>
        </p:nvPicPr>
        <p:blipFill>
          <a:blip r:embed="rId3"/>
          <a:stretch/>
        </p:blipFill>
        <p:spPr>
          <a:xfrm>
            <a:off x="678672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footprints.jpg"/>
          <p:cNvPicPr/>
          <p:nvPr/>
        </p:nvPicPr>
        <p:blipFill>
          <a:blip r:embed="rId4"/>
          <a:stretch/>
        </p:blipFill>
        <p:spPr>
          <a:xfrm>
            <a:off x="228600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footprints.jpg"/>
          <p:cNvPicPr/>
          <p:nvPr/>
        </p:nvPicPr>
        <p:blipFill>
          <a:blip r:embed="rId5"/>
          <a:stretch/>
        </p:blipFill>
        <p:spPr>
          <a:xfrm>
            <a:off x="785880" y="6143760"/>
            <a:ext cx="151128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1" descr="ddunstan"/>
          <p:cNvPicPr/>
          <p:nvPr/>
        </p:nvPicPr>
        <p:blipFill>
          <a:blip r:embed="rId1"/>
          <a:stretch/>
        </p:blipFill>
        <p:spPr>
          <a:xfrm>
            <a:off x="3273480" y="1474920"/>
            <a:ext cx="1427040" cy="1365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bonner"/>
          <p:cNvPicPr/>
          <p:nvPr/>
        </p:nvPicPr>
        <p:blipFill>
          <a:blip r:embed="rId2"/>
          <a:stretch/>
        </p:blipFill>
        <p:spPr>
          <a:xfrm>
            <a:off x="4011480" y="3395520"/>
            <a:ext cx="1163880" cy="10242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abor1"/>
          <p:cNvPicPr/>
          <p:nvPr/>
        </p:nvPicPr>
        <p:blipFill>
          <a:blip r:embed="rId3"/>
          <a:stretch/>
        </p:blipFill>
        <p:spPr>
          <a:xfrm>
            <a:off x="2925720" y="4840200"/>
            <a:ext cx="1401840" cy="1352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1" descr="marymck"/>
          <p:cNvPicPr/>
          <p:nvPr/>
        </p:nvPicPr>
        <p:blipFill>
          <a:blip r:embed="rId4"/>
          <a:stretch/>
        </p:blipFill>
        <p:spPr>
          <a:xfrm>
            <a:off x="774720" y="3097080"/>
            <a:ext cx="1298520" cy="1316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5" descr="YoungNed"/>
          <p:cNvPicPr/>
          <p:nvPr/>
        </p:nvPicPr>
        <p:blipFill>
          <a:blip r:embed="rId5"/>
          <a:stretch/>
        </p:blipFill>
        <p:spPr>
          <a:xfrm>
            <a:off x="7169040" y="2157480"/>
            <a:ext cx="1219320" cy="1639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7" descr="barry"/>
          <p:cNvPicPr/>
          <p:nvPr/>
        </p:nvPicPr>
        <p:blipFill>
          <a:blip r:embed="rId6"/>
          <a:stretch/>
        </p:blipFill>
        <p:spPr>
          <a:xfrm>
            <a:off x="5718240" y="1530360"/>
            <a:ext cx="1176120" cy="11826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Kristen ITC"/>
              </a:rPr>
              <a:t>Who Are W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5" name="Picture 31" descr="greer1"/>
          <p:cNvPicPr/>
          <p:nvPr/>
        </p:nvPicPr>
        <p:blipFill>
          <a:blip r:embed="rId7"/>
          <a:stretch/>
        </p:blipFill>
        <p:spPr>
          <a:xfrm>
            <a:off x="1365120" y="4675320"/>
            <a:ext cx="1146240" cy="12016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5" descr="cawley"/>
          <p:cNvPicPr/>
          <p:nvPr/>
        </p:nvPicPr>
        <p:blipFill>
          <a:blip r:embed="rId8"/>
          <a:stretch/>
        </p:blipFill>
        <p:spPr>
          <a:xfrm>
            <a:off x="1359000" y="1816200"/>
            <a:ext cx="1109520" cy="1212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4" descr="fred_n2"/>
          <p:cNvPicPr/>
          <p:nvPr/>
        </p:nvPicPr>
        <p:blipFill>
          <a:blip r:embed="rId9"/>
          <a:stretch/>
        </p:blipFill>
        <p:spPr>
          <a:xfrm>
            <a:off x="5668920" y="4737240"/>
            <a:ext cx="1487520" cy="1584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8" descr="pharlp63sm"/>
          <p:cNvPicPr/>
          <p:nvPr/>
        </p:nvPicPr>
        <p:blipFill>
          <a:blip r:embed="rId10"/>
          <a:stretch/>
        </p:blipFill>
        <p:spPr>
          <a:xfrm>
            <a:off x="7412040" y="3981600"/>
            <a:ext cx="1079640" cy="1023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4" descr="footprints.jpg"/>
          <p:cNvPicPr/>
          <p:nvPr/>
        </p:nvPicPr>
        <p:blipFill>
          <a:blip r:embed="rId11"/>
          <a:stretch/>
        </p:blipFill>
        <p:spPr>
          <a:xfrm>
            <a:off x="3786120" y="628668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5" descr="footprints.jpg"/>
          <p:cNvPicPr/>
          <p:nvPr/>
        </p:nvPicPr>
        <p:blipFill>
          <a:blip r:embed="rId12"/>
          <a:stretch/>
        </p:blipFill>
        <p:spPr>
          <a:xfrm>
            <a:off x="5286240" y="628668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6" descr="footprints.jpg"/>
          <p:cNvPicPr/>
          <p:nvPr/>
        </p:nvPicPr>
        <p:blipFill>
          <a:blip r:embed="rId13"/>
          <a:stretch/>
        </p:blipFill>
        <p:spPr>
          <a:xfrm>
            <a:off x="6786720" y="628668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7" descr="footprints.jpg"/>
          <p:cNvPicPr/>
          <p:nvPr/>
        </p:nvPicPr>
        <p:blipFill>
          <a:blip r:embed="rId14"/>
          <a:stretch/>
        </p:blipFill>
        <p:spPr>
          <a:xfrm>
            <a:off x="2286000" y="628668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8" descr="footprints.jpg"/>
          <p:cNvPicPr/>
          <p:nvPr/>
        </p:nvPicPr>
        <p:blipFill>
          <a:blip r:embed="rId15"/>
          <a:stretch/>
        </p:blipFill>
        <p:spPr>
          <a:xfrm>
            <a:off x="785880" y="628668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8" descr="pharlp63sm"/>
          <p:cNvPicPr/>
          <p:nvPr/>
        </p:nvPicPr>
        <p:blipFill>
          <a:blip r:embed="rId16"/>
          <a:stretch/>
        </p:blipFill>
        <p:spPr>
          <a:xfrm>
            <a:off x="7564320" y="4133880"/>
            <a:ext cx="10796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Kristen ITC"/>
              </a:rPr>
              <a:t>Who Are W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8" name="Picture 5" descr="mabo2"/>
          <p:cNvPicPr/>
          <p:nvPr/>
        </p:nvPicPr>
        <p:blipFill>
          <a:blip r:embed="rId1"/>
          <a:stretch/>
        </p:blipFill>
        <p:spPr>
          <a:xfrm>
            <a:off x="1085760" y="4316400"/>
            <a:ext cx="1230480" cy="1359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joan"/>
          <p:cNvPicPr/>
          <p:nvPr/>
        </p:nvPicPr>
        <p:blipFill>
          <a:blip r:embed="rId2"/>
          <a:stretch/>
        </p:blipFill>
        <p:spPr>
          <a:xfrm>
            <a:off x="2567160" y="4591080"/>
            <a:ext cx="1339560" cy="1596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dawn"/>
          <p:cNvPicPr/>
          <p:nvPr/>
        </p:nvPicPr>
        <p:blipFill>
          <a:blip r:embed="rId3"/>
          <a:stretch/>
        </p:blipFill>
        <p:spPr>
          <a:xfrm>
            <a:off x="4913280" y="4840200"/>
            <a:ext cx="1049400" cy="1011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lawson2"/>
          <p:cNvPicPr/>
          <p:nvPr/>
        </p:nvPicPr>
        <p:blipFill>
          <a:blip r:embed="rId4"/>
          <a:stretch/>
        </p:blipFill>
        <p:spPr>
          <a:xfrm>
            <a:off x="6224760" y="1073160"/>
            <a:ext cx="1249200" cy="18288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victor1"/>
          <p:cNvPicPr/>
          <p:nvPr/>
        </p:nvPicPr>
        <p:blipFill>
          <a:blip r:embed="rId5"/>
          <a:stretch/>
        </p:blipFill>
        <p:spPr>
          <a:xfrm>
            <a:off x="7126200" y="3193920"/>
            <a:ext cx="1079640" cy="1182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bradman2"/>
          <p:cNvPicPr/>
          <p:nvPr/>
        </p:nvPicPr>
        <p:blipFill>
          <a:blip r:embed="rId6"/>
          <a:stretch/>
        </p:blipFill>
        <p:spPr>
          <a:xfrm>
            <a:off x="4151160" y="1390680"/>
            <a:ext cx="1163880" cy="12733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whitlam2"/>
          <p:cNvPicPr/>
          <p:nvPr/>
        </p:nvPicPr>
        <p:blipFill>
          <a:blip r:embed="rId7"/>
          <a:stretch/>
        </p:blipFill>
        <p:spPr>
          <a:xfrm>
            <a:off x="560520" y="2382840"/>
            <a:ext cx="1334880" cy="1792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http://users.sa.chariot.net.au/~michaelc/Elizabeth/paterson3.gif"/>
          <p:cNvPicPr/>
          <p:nvPr/>
        </p:nvPicPr>
        <p:blipFill>
          <a:blip r:embed="rId8"/>
          <a:stretch/>
        </p:blipFill>
        <p:spPr>
          <a:xfrm>
            <a:off x="6649920" y="4443480"/>
            <a:ext cx="1274760" cy="1622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8" descr="Vida Goldstein"/>
          <p:cNvPicPr/>
          <p:nvPr/>
        </p:nvPicPr>
        <p:blipFill>
          <a:blip r:embed="rId9"/>
          <a:stretch/>
        </p:blipFill>
        <p:spPr>
          <a:xfrm>
            <a:off x="2054160" y="1554120"/>
            <a:ext cx="981000" cy="1401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0" descr="Matthew Flinders"/>
          <p:cNvPicPr/>
          <p:nvPr/>
        </p:nvPicPr>
        <p:blipFill>
          <a:blip r:embed="rId10"/>
          <a:stretch/>
        </p:blipFill>
        <p:spPr>
          <a:xfrm>
            <a:off x="3724200" y="3395520"/>
            <a:ext cx="1451160" cy="11210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8" descr="footprints.jpg"/>
          <p:cNvPicPr/>
          <p:nvPr/>
        </p:nvPicPr>
        <p:blipFill>
          <a:blip r:embed="rId11"/>
          <a:stretch/>
        </p:blipFill>
        <p:spPr>
          <a:xfrm>
            <a:off x="378612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9" descr="footprints.jpg"/>
          <p:cNvPicPr/>
          <p:nvPr/>
        </p:nvPicPr>
        <p:blipFill>
          <a:blip r:embed="rId12"/>
          <a:stretch/>
        </p:blipFill>
        <p:spPr>
          <a:xfrm>
            <a:off x="528624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0" descr="footprints.jpg"/>
          <p:cNvPicPr/>
          <p:nvPr/>
        </p:nvPicPr>
        <p:blipFill>
          <a:blip r:embed="rId13"/>
          <a:stretch/>
        </p:blipFill>
        <p:spPr>
          <a:xfrm>
            <a:off x="678672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1" descr="footprints.jpg"/>
          <p:cNvPicPr/>
          <p:nvPr/>
        </p:nvPicPr>
        <p:blipFill>
          <a:blip r:embed="rId14"/>
          <a:stretch/>
        </p:blipFill>
        <p:spPr>
          <a:xfrm>
            <a:off x="228600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2" descr="footprints.jpg"/>
          <p:cNvPicPr/>
          <p:nvPr/>
        </p:nvPicPr>
        <p:blipFill>
          <a:blip r:embed="rId15"/>
          <a:stretch/>
        </p:blipFill>
        <p:spPr>
          <a:xfrm>
            <a:off x="785880" y="6143760"/>
            <a:ext cx="151128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4" name="Picture 5" descr="aboriginal flag.jpg"/>
          <p:cNvPicPr/>
          <p:nvPr/>
        </p:nvPicPr>
        <p:blipFill>
          <a:blip r:embed="rId1"/>
          <a:stretch/>
        </p:blipFill>
        <p:spPr>
          <a:xfrm>
            <a:off x="1536840" y="2779560"/>
            <a:ext cx="2273040" cy="2157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australianflag.jpg"/>
          <p:cNvPicPr/>
          <p:nvPr/>
        </p:nvPicPr>
        <p:blipFill>
          <a:blip r:embed="rId2"/>
          <a:stretch/>
        </p:blipFill>
        <p:spPr>
          <a:xfrm>
            <a:off x="4700520" y="2792520"/>
            <a:ext cx="2548080" cy="1950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footprints.jpg"/>
          <p:cNvPicPr/>
          <p:nvPr/>
        </p:nvPicPr>
        <p:blipFill>
          <a:blip r:embed="rId3"/>
          <a:stretch/>
        </p:blipFill>
        <p:spPr>
          <a:xfrm>
            <a:off x="378612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footprints.jpg"/>
          <p:cNvPicPr/>
          <p:nvPr/>
        </p:nvPicPr>
        <p:blipFill>
          <a:blip r:embed="rId4"/>
          <a:stretch/>
        </p:blipFill>
        <p:spPr>
          <a:xfrm>
            <a:off x="528624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footprints.jpg"/>
          <p:cNvPicPr/>
          <p:nvPr/>
        </p:nvPicPr>
        <p:blipFill>
          <a:blip r:embed="rId5"/>
          <a:stretch/>
        </p:blipFill>
        <p:spPr>
          <a:xfrm>
            <a:off x="678672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footprints.jpg"/>
          <p:cNvPicPr/>
          <p:nvPr/>
        </p:nvPicPr>
        <p:blipFill>
          <a:blip r:embed="rId6"/>
          <a:stretch/>
        </p:blipFill>
        <p:spPr>
          <a:xfrm>
            <a:off x="2286000" y="6143760"/>
            <a:ext cx="1511280" cy="252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footprints.jpg"/>
          <p:cNvPicPr/>
          <p:nvPr/>
        </p:nvPicPr>
        <p:blipFill>
          <a:blip r:embed="rId7"/>
          <a:stretch/>
        </p:blipFill>
        <p:spPr>
          <a:xfrm>
            <a:off x="785880" y="6143760"/>
            <a:ext cx="151128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00:47:36Z</dcterms:created>
  <dc:creator>GTAC</dc:creator>
  <dc:description/>
  <dc:language>en-US</dc:language>
  <cp:lastModifiedBy>Kerrie Opray</cp:lastModifiedBy>
  <dcterms:modified xsi:type="dcterms:W3CDTF">2007-11-12T11:48:38Z</dcterms:modified>
  <cp:revision>24</cp:revision>
  <dc:subject/>
  <dc:title>Making Tracks</dc:title>
</cp:coreProperties>
</file>